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8C3-0D9D-4595-9B44-C8507E947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902-B8FD-436E-903F-41E85C4B0E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483A-B4B7-4EC4-8E1F-F9D73AD364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B67-B5F3-46B6-9F81-08CC206B06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2D9-41DC-4B34-B378-41F16C6DD3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8B07-B085-4BD5-A37E-AC15399908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471-51A0-4C9E-8AA7-9BA32B14FB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213-9F90-4C5F-BDC0-38C67F6B7B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E7E8-E172-427C-B254-E4B70C5C97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EF84-CD99-4089-906D-E83A497204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59C5-FADB-4496-A8C1-417F3E0850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C76-F73E-412A-9973-AE46A69968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855-B0BF-4A58-944B-043485DBCE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0B3-5954-442A-8418-CB9009DEAF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B29-6B8B-475D-8A16-13A491076E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58A6-D05A-43B0-9F59-F9551BD1E6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9C60-1146-46B9-810D-2B91093663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D96-D32B-45A4-8A89-838B487927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286-E48B-4844-B404-A2BA22A208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3A3-EFF3-4712-B915-2977576BD9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F76-775B-4F3A-8958-4C56FABE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897-3212-483B-8E66-3FDA409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91B-3F4F-4CE4-BC28-E994D96E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A37-E172-4E97-9E29-E977665C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37D-3599-4CB5-9D06-878C824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A50-241D-4FCC-B368-71574CB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CAF-9582-4B2C-B7E2-E19E7090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B19-5532-432B-8344-2AF621C3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58A-4551-4885-A802-4C74B0F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BE8-FF5F-4A96-8A32-8BAED64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1D9-58D8-4713-B887-6892F6D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8D6-FB86-4A30-BA5B-90401E5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B20-6B82-44F7-BDDB-2E80229CE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ложени системи</a:t>
            </a:r>
            <a:br>
              <a:rPr sz="4400"/>
            </a:b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G и улога ATP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најзначанији приме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818120" y="647064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371600" y="4557600"/>
            <a:ext cx="6400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2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71280"/>
            <a:ext cx="87631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е реакције су важни ступњеви који спрегнути са другим реакцијама чине процесе у ћелији спонтаним, при чем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Спонтани процес хидролизе 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других неспонтаних процеса дајући енергију потребну за њихово одвијањ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ADP + 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→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+ 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C + ADP +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Неспонтан процес грађења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P + P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TP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спонтаних процеса као што су оксидације-сагоревања хранљивих материја, респираторним процесима или са спонтаним реакцијама током фотосинтезе,  који дају енергију потребну за грађење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и тиме чине укупан процес спонта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4"/>
          <p:cNvSpPr/>
          <p:nvPr/>
        </p:nvSpPr>
        <p:spPr>
          <a:xfrm>
            <a:off x="152280" y="26668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високоспонтан процес који тера ћелију да рад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2280" y="9907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соко спонтани процес који тера ћелију да ради је “разградња хидролиза молекула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ATP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озин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-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(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фа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5504040"/>
            <a:ext cx="9296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едан велики молекул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два мања молекула    +    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80880" y="1090440"/>
            <a:ext cx="8535960" cy="5767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039120" y="3124080"/>
            <a:ext cx="297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денозин трифосфат (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545600" y="4821120"/>
            <a:ext cx="9759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Eнер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99088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6580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133880" y="146376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14684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57840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552680" y="480060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760400" y="4915080"/>
            <a:ext cx="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old"/>
                <a:ea typeface="Arial Bold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428640" y="6172200"/>
            <a:ext cx="29041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Aденозин дифосфат (A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29560" y="6095880"/>
            <a:ext cx="2181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неоргански 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281200" y="3398760"/>
            <a:ext cx="424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Bold"/>
                <a:ea typeface="Arial Bol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623320" y="477036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677640" y="481824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735600" y="20574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735600" y="27432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2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6810120" y="3581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 = +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4 J/K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састоји од аденина рибозе и три фосфо групе, хидролизом која је реакција са водом настаје аденозин дифосфат и одваја се једна фосфо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80880" y="33526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ЕАКЦИЈА ЈЕ ЕГЗОТЕРМНА И СПОН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агање ATP у  A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5504040"/>
            <a:ext cx="89154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један велики молекул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два мања молекула )       +           (енерг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0" y="0"/>
            <a:ext cx="4495680" cy="5301000"/>
            <a:chOff x="0" y="0"/>
            <a:chExt cx="4495680" cy="5301000"/>
          </a:xfrm>
        </p:grpSpPr>
        <p:pic>
          <p:nvPicPr>
            <p:cNvPr id="111" name="Picture 2" descr="E_0705"/>
            <p:cNvPicPr/>
            <p:nvPr/>
          </p:nvPicPr>
          <p:blipFill>
            <a:blip r:embed="rId1"/>
            <a:stretch/>
          </p:blipFill>
          <p:spPr>
            <a:xfrm>
              <a:off x="200880" y="296280"/>
              <a:ext cx="4092120" cy="44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469080" y="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den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1944000" y="722160"/>
              <a:ext cx="198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Ф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сфатне груп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35160" y="1551600"/>
              <a:ext cx="88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ibos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335160" y="2049120"/>
              <a:ext cx="34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денозин трифосфат  (A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670320" y="2370240"/>
              <a:ext cx="134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Х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дролиза 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0" y="4752000"/>
              <a:ext cx="44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енозиндифосфат  (A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1"/>
            <p:cNvSpPr/>
            <p:nvPr/>
          </p:nvSpPr>
          <p:spPr>
            <a:xfrm>
              <a:off x="3150720" y="4620960"/>
              <a:ext cx="1344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органскифосфат (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4"/>
          <p:cNvSpPr/>
          <p:nvPr/>
        </p:nvSpPr>
        <p:spPr>
          <a:xfrm>
            <a:off x="5105520" y="1905120"/>
            <a:ext cx="373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е везе, омогућавају реакцију хидроли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ље реакци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другим молек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8"/>
          <p:cNvCxnSpPr/>
          <p:nvPr/>
        </p:nvCxnSpPr>
        <p:spPr>
          <a:xfrm flipH="1" flipV="1">
            <a:off x="3276360" y="1447200"/>
            <a:ext cx="175320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2666520" y="1447200"/>
            <a:ext cx="236304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23"/>
          <p:cNvCxnSpPr/>
          <p:nvPr/>
        </p:nvCxnSpPr>
        <p:spPr>
          <a:xfrm flipH="1">
            <a:off x="2742840" y="2437200"/>
            <a:ext cx="2286720" cy="16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Rectangle 25"/>
          <p:cNvSpPr/>
          <p:nvPr/>
        </p:nvSpPr>
        <p:spPr>
          <a:xfrm>
            <a:off x="3352680" y="2286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табил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6943680" y="609588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лиза аденозин трифосф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493640" y="1295280"/>
            <a:ext cx="4897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AD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2119320" y="2209680"/>
                <a:ext cx="42530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4"/>
          <p:cNvSpPr/>
          <p:nvPr/>
        </p:nvSpPr>
        <p:spPr>
          <a:xfrm>
            <a:off x="457200" y="5105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је у овој реакцији 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 = -32 kJ/mol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 = -20   kJ/m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у врдност ће имати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на 310 К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 даје енергиј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идролиза  ATP се </a:t>
            </a:r>
            <a:r>
              <a:rPr b="0" lang="sr-RS" sz="2900" spc="-1" strike="noStrike">
                <a:solidFill>
                  <a:srgbClr val="000000"/>
                </a:solidFill>
                <a:latin typeface="Calibri"/>
              </a:rPr>
              <a:t>спреже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а уобичајеним интермедијерним реакцијама  које нису спонтане као што је реакција настанка сахароз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TP + H</a:t>
            </a:r>
            <a:r>
              <a:rPr b="1" lang="pt-BR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1" i="1" lang="pt-BR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sr-RS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глукоза +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фруктоза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 сахароза  + H</a:t>
            </a:r>
            <a:r>
              <a:rPr b="1" lang="pt-BR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+27 kJ/mo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5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лукоза  + фруктоза  + ATP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сахароза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+ ADP + P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−5 kJ/m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09480" y="4572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ер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акц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 формирању сахарозе је реакција фосфорилизације, у којој фосфо група са ATP бива пренета на глукозу чиме настаје фосфо-глукоза, која затим реагује са фруктозом и гради сахароз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33520" y="5638680"/>
            <a:ext cx="6095880" cy="954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 + ATP → глукоза -P + 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-P + фруктоз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сахароза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 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hape 7"/>
          <p:cNvCxnSpPr>
            <a:stCxn id="132" idx="1"/>
            <a:endCxn id="130" idx="1"/>
          </p:cNvCxnSpPr>
          <p:nvPr/>
        </p:nvCxnSpPr>
        <p:spPr>
          <a:xfrm flipH="1" rot="10800000">
            <a:off x="532440" y="2644200"/>
            <a:ext cx="76680" cy="3456720"/>
          </a:xfrm>
          <a:prstGeom prst="bentConnector3">
            <a:avLst>
              <a:gd name="adj1" fmla="val -30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" y="761760"/>
            <a:ext cx="91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злагање  ATP  доводи до тога да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у ћелији захваљујући негативној вредности гибсове слободне енергиј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−32 kJ/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 одвијање више процеса у којима се врши рад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ellWork1"/>
          <p:cNvPicPr/>
          <p:nvPr/>
        </p:nvPicPr>
        <p:blipFill>
          <a:blip r:embed="rId1"/>
          <a:stretch/>
        </p:blipFill>
        <p:spPr>
          <a:xfrm>
            <a:off x="2286000" y="2087640"/>
            <a:ext cx="5388120" cy="4797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753280" y="2008080"/>
            <a:ext cx="44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нспорт јона кроз ћелијску мембр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961720" y="3684600"/>
            <a:ext cx="399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ханички рад, кретање проте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793240" y="5132520"/>
            <a:ext cx="444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 рад, грађење нових молеку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повезује спонтане и неспонтане проце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тварање  ATP у реакцији фосфо групе и  ADP захтева енергију, коју морају дати егзотермни процеси који се дешавају у ћелиј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+ енергија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 је важна веза између егзотермних спонтаних (катаболични пут) и ендотермних неспонтаних процеса (анаболички пут) 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гестиј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макромолеку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920" y="121932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ада ми варимо –дигестујемо макромолекуле хране, долази до раскидања веза и грађења мањих блокова макромолекула,  у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штем случају дешавају се следећи проце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ротеини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амино кисел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олисахариди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једноставне шећ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Нуклеинске кселине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макромолек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51055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 носи те изграђујуће блокове у ћелије, где се они троше у неким процесима или бивају трансформисани у нове макромолек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аболички путеви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990720"/>
            <a:ext cx="80773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М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етаболизам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ве реакције у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таболички путе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еквенца ре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ција у којима се хемијске промене одигравају у великом низу ступњева од којих је сваки катализован ензи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У ћелијској респирацији шећер глукоза се користи као гориво, а процес се одвија у три главне фазе које укључују 20 реакција и 20 различитих енз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и закони хемије и физике важе у живим системима исто као и у неживи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2120" y="24382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онзервација масе –закон о сачувању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зервација момента- закон о сачувању количине крет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они термо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стадијума сагоревања глукоз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аком се производ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027" descr="cellrespir"/>
          <p:cNvPicPr/>
          <p:nvPr/>
        </p:nvPicPr>
        <p:blipFill>
          <a:blip r:embed="rId1"/>
          <a:stretch/>
        </p:blipFill>
        <p:spPr>
          <a:xfrm>
            <a:off x="685800" y="1035000"/>
            <a:ext cx="75438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9621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есет ступњева првог стадијума гл</a:t>
            </a:r>
            <a:r>
              <a:rPr b="0" lang="sr-RS" sz="2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колиз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027" descr="glycolysis"/>
          <p:cNvPicPr/>
          <p:nvPr/>
        </p:nvPicPr>
        <p:blipFill>
          <a:blip r:embed="rId1"/>
          <a:stretch/>
        </p:blipFill>
        <p:spPr>
          <a:xfrm>
            <a:off x="4648320" y="0"/>
            <a:ext cx="3413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228600" y="838080"/>
            <a:ext cx="304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ПРОЦЕС ЈЕ ВР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ЛОЖ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Arrow 4"/>
          <p:cNvSpPr/>
          <p:nvPr/>
        </p:nvSpPr>
        <p:spPr>
          <a:xfrm>
            <a:off x="3657600" y="380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5"/>
          <p:cNvSpPr/>
          <p:nvPr/>
        </p:nvSpPr>
        <p:spPr>
          <a:xfrm>
            <a:off x="3657600" y="16002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6"/>
          <p:cNvSpPr/>
          <p:nvPr/>
        </p:nvSpPr>
        <p:spPr>
          <a:xfrm>
            <a:off x="3657600" y="23623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7"/>
          <p:cNvSpPr/>
          <p:nvPr/>
        </p:nvSpPr>
        <p:spPr>
          <a:xfrm>
            <a:off x="3581280" y="3124080"/>
            <a:ext cx="978120" cy="331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8"/>
          <p:cNvSpPr/>
          <p:nvPr/>
        </p:nvSpPr>
        <p:spPr>
          <a:xfrm>
            <a:off x="3657600" y="3809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9"/>
          <p:cNvSpPr/>
          <p:nvPr/>
        </p:nvSpPr>
        <p:spPr>
          <a:xfrm>
            <a:off x="3657600" y="44956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0"/>
          <p:cNvSpPr/>
          <p:nvPr/>
        </p:nvSpPr>
        <p:spPr>
          <a:xfrm>
            <a:off x="3657600" y="52578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1"/>
          <p:cNvSpPr/>
          <p:nvPr/>
        </p:nvSpPr>
        <p:spPr>
          <a:xfrm>
            <a:off x="3657600" y="60199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12"/>
          <p:cNvSpPr/>
          <p:nvPr/>
        </p:nvSpPr>
        <p:spPr>
          <a:xfrm>
            <a:off x="3733920" y="9907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"/>
          <p:cNvSpPr/>
          <p:nvPr/>
        </p:nvSpPr>
        <p:spPr>
          <a:xfrm>
            <a:off x="4070520" y="0"/>
            <a:ext cx="2406600" cy="99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8915400" cy="6523200"/>
        </p:xfrm>
        <a:graphic>
          <a:graphicData uri="http://schemas.openxmlformats.org/drawingml/2006/table">
            <a:tbl>
              <a:tblPr/>
              <a:tblGrid>
                <a:gridCol w="777240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i glikolize – svi se odigravaju na odgovarajućim enzim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kJ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6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 6-di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1,6-di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1,6-di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yceraldehyde-3-phosphate + phosphate + NAD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NADH + H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-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glyce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enolpyruvate + H2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phosphoenol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ctate + NAD 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cetaldehyde + CO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taldehyd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thanol + NAD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и у организму у којима учеству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TP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 спрегнути процеси грађења проте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1600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)  </a:t>
            </a:r>
            <a:r>
              <a:rPr b="1" lang="az-Cyrl-AZ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мино киселине  + толота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проте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)  ATP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ADP + фосфат + то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+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мино киселине  + AT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протеин  + ADP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+ фосфат  + то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регнути  процеси:  дисање и синтеза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28600" y="18288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+ фосфат  + топлота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 + то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ADP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 +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топ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28600" y="45720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мбинација процеса доводи до пораста укупне ентроп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нтропија универзума ра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/ADP од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7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пична ћелија садржи дес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 пута више молекула ATP  него молекула AD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исок ниво концентрације  ATP утиче да реакција хидролизе која је високо егзоенергетска, омогућава дешавање реакција које су ендое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ргетс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ћелија не може да складишти велику количину ATP –  ATP који се континуално троше и настају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228600" y="41400"/>
            <a:ext cx="891540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Битно је нагласити због важности коју молекул ATP  има у метаболичким процесима да људско тело садржи просечно свега око 50 gr ATP, што је уствари само разлика количине произведеног и разграђеног ATP у хидролитичком процесу. Количина награђеног ATP  је неупоредиво већ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Ако човек чија је маса 70кг током једног дана у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  <a:ea typeface="Arial"/>
              </a:rPr>
              <a:t> организа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унесе око 2000 Kcal кроз храну и ако претпоставимо да се целокупна количина унете енергије потроши на синтезу ATP, при чему је промена стандардне слободне енергије у реакцији грађења  ATP једнака: 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+7.3 kcal /mol наградиће се 274 мола ATP (2000/7.3= 274). Пошто је М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0g/mol, следи да је током једног дана синтетисано 274 x 500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137 kg A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приближно иста та маса се и хидролитички разлож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Што значи да људски организам свакога дана произведе масу ATP  која је скоро двоструко већа од масе организма. Будући да се у организму налази свега 50г ATP, следи да се током дана цикус  ATP –ADP.  понови ( 137000/50) нешто око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3000 пут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и конверзија енерг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5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 способност тела да врши р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енцијална енергија је енергија стања или позиције; што укључује енергију садржану у хемијским веза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а енергија је енергија кретањ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емијске реакције дају или примају енергију од окол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зам је укупан збир свих хемијских процеса који се дешавају у ћелиј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Ан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садржана у реакцијама; синтеза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ат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ослобођена у реакцијама; разлагање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819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1) A →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+20.9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2) C → 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−33.5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упно A  + C → B + 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−12.6 kJ/m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у укупно спонтане и ако прва реакција није спонтана а друга јес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+20.9 kJ/mol (+5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2) 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−33.5 kJ/mol (−8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−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леде једна за другом обе су спонта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A + 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kJ/mol (−2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4) 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 +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.2 kJ/mol (−1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модинамички спрегнути процеси у ћелиј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от ћелија се базира на термодинамички спрегнутим процесима у којима спонтани процеси омогућавају одвијање неспонтаних процеса, тако да је укупна Гибсова слободна енергија сп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гнутих процес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G&lt;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У ћелијама се одвијају многобројни спрегнути процеси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77920" y="228600"/>
            <a:ext cx="856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која даје највећи допринос укупној спонтаности процеса у ћелији је повратна реакција молекула аденозин трифосфата (ATP), у којој се овај молекул хидролитички разлаже дајући молекул аденозин дифосфата (ADP)  и њој повратна реакција у којој се из молекула ADP  који реагује са фосфо групом синтетише AT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3428280" y="3819240"/>
            <a:ext cx="648720" cy="73800"/>
            <a:chOff x="3428280" y="3819240"/>
            <a:chExt cx="648720" cy="73800"/>
          </a:xfrm>
        </p:grpSpPr>
        <p:cxnSp>
          <p:nvCxnSpPr>
            <p:cNvPr id="66" name="Straight Arrow Connector 5"/>
            <p:cNvCxnSpPr/>
            <p:nvPr/>
          </p:nvCxnSpPr>
          <p:spPr>
            <a:xfrm>
              <a:off x="3463920" y="38192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" name="Straight Arrow Connector 6"/>
            <p:cNvCxnSpPr/>
            <p:nvPr/>
          </p:nvCxnSpPr>
          <p:spPr>
            <a:xfrm flipH="1">
              <a:off x="3428280" y="3892320"/>
              <a:ext cx="64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8" name="Rectangle 5"/>
          <p:cNvSpPr/>
          <p:nvPr/>
        </p:nvSpPr>
        <p:spPr>
          <a:xfrm>
            <a:off x="1090440" y="3521880"/>
            <a:ext cx="536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7920" y="4572000"/>
            <a:ext cx="8478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хидролизе ATP  је спонтан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а повратна реакција мора бити неспонтана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30480" y="2800440"/>
            <a:ext cx="486072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Oval 1"/>
          <p:cNvSpPr/>
          <p:nvPr/>
        </p:nvSpPr>
        <p:spPr>
          <a:xfrm>
            <a:off x="5881680" y="3875040"/>
            <a:ext cx="151272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1832040" y="3875040"/>
            <a:ext cx="1512720" cy="76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дролиза ATP у ADP и реверзибилна реакција грађења  ATP из  ADP  представљају основу комплетне биоенергетике живих систе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 ATP  се у организму непрекидно рециклира, кроз процесе у којима се гради и разграђ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355840" y="2259720"/>
            <a:ext cx="4064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915520" y="5288040"/>
            <a:ext cx="316764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и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синтетски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1680" y="4919760"/>
            <a:ext cx="3340080" cy="192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сидацијa молеку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горевање хра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их мате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>
            <a:off x="4387320" y="255564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8"/>
          <p:cNvCxnSpPr/>
          <p:nvPr/>
        </p:nvCxnSpPr>
        <p:spPr>
          <a:xfrm flipH="1">
            <a:off x="4401360" y="266652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angle 20"/>
          <p:cNvSpPr/>
          <p:nvPr/>
        </p:nvSpPr>
        <p:spPr>
          <a:xfrm>
            <a:off x="5914800" y="3287880"/>
            <a:ext cx="2486160" cy="40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15600" y="3297240"/>
            <a:ext cx="2431080" cy="40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3:50:06Z</dcterms:created>
  <dc:creator>Vera Dondur</dc:creator>
  <dc:description/>
  <dc:language>en-US</dc:language>
  <cp:lastModifiedBy>Snezana Jovanovic</cp:lastModifiedBy>
  <dcterms:modified xsi:type="dcterms:W3CDTF">2023-10-27T12:50:39Z</dcterms:modified>
  <cp:revision>124</cp:revision>
  <dc:subject/>
  <dc:title>Slide 1</dc:title>
</cp:coreProperties>
</file>